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8DA-CD13-42F8-A95F-7726A76F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357-00D3-4BA9-ADB5-7D292904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BF841-81A1-4458-BD5C-CB9D5D8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1C1CB-90B3-4BCB-A8E7-BD8CA06E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47243-8AD6-441C-9B40-CC99008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64070-0850-4665-8B13-08BD030B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930A8-C191-4548-AF28-CBB592FE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A7A0F-0F1C-4ECD-9807-9FB0A32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F2818-79C7-4F75-A1FE-C80D66E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BCFFA-3E56-4F7F-B114-BBE8B5E5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9CA1C-4A9D-45ED-9FA4-8ED319AB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73321-9C23-4CB8-8152-A6E350A6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F33-4C98-4525-A2F1-FAA2A9FC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1C687-5EED-411A-8B15-2FD80042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02FE4-0FB6-4EEB-B7AC-1ED451A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36278-75F7-4C36-9379-4B019E91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B67DD-78BE-4835-BB02-5442F2EA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E3613-71D9-4820-A412-E147E590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7C8E2-8C1B-49ED-85F8-F7AE349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CFF80-600A-4C83-8769-EBEDF8E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1FA9E-A583-4B91-B921-C67B8CE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9B44C-29F3-480B-8945-6FB1F511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1F452-E341-49D3-A25B-03CEE263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864-FA28-4CA0-BFEF-E25218EC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82EFF-4E5D-42C1-BF8F-30362618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CDD8A-F49D-41AD-A9E2-0EFC9F83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FC183-3911-43EC-B48E-AEB25CF0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C9843-9387-4D67-A029-04DF6480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725AA-5E2F-403B-81B1-E86978A7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53A73-3E5C-4FDD-B8F7-4DDED33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D321F-0826-41F3-8EBD-3B89164F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25775-3627-4E10-B1BB-EC4B7215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FE575-E867-464B-B8AB-089FB34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55508-D689-4AEB-8CD4-94C01CB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7061-B3A6-46D0-B0D9-B74E0494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BBBB6-F987-41AF-8BF7-1CF60A7C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3B22A-BD6C-4AC1-906A-968E81E5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64BFA-DA6E-4694-84F4-E7A74111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4B065-0525-41C9-B8F7-2B13C627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EC515-F73D-4523-A0C4-4B02357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5C19C-C482-43BB-B3F8-01C42350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33C82-EB4C-4869-9ADB-3FC2D4A5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E04E9-20FE-4335-9B71-AE02370A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7BB96-EFB9-4F9E-B7D1-F097B95F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F8ED0-CCE6-4216-BE7C-85A18B0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ADF8-D335-4BA8-B321-0A2D9CD9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A5070-979E-4275-99B0-13E7DC7F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1E63A-3609-43AF-BC89-BE2ACA4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D5421-F1FB-4A71-BF66-7BDC9A74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7E037-761E-446D-8BA7-DAC1B8B7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997C2-5328-4DC6-A86F-643B8BBE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2AA3-A364-4EBA-82BF-188C123D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0539-6082-4083-8DB4-B47D5DF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328-3C6D-4BBB-90E3-A9A518C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5A8-BB1A-4BE8-9A9B-B517F4BB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5977-6BD7-46EF-BFE8-C0C2779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5D1-FB71-4BC0-A49A-2F955986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C033-A2BF-45E7-A10B-42654590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D4A2-ED3D-4832-B5CC-4E4968F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0B1A-7BA9-48D4-8369-FA8A4C1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36C2-A9A7-487D-A08C-C87AB21A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6198-15C4-4FB9-BD88-1249C55E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BBF2-9429-4C8F-80DE-7542450A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F6F1-1E65-49BC-A844-948F1AD9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B2F2-2192-4D66-AC91-96A483DD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895D-4198-4D23-A45E-21F7BDAD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D94F-78ED-4E6E-AC1C-214EB106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118-85AD-494F-A88C-D741185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2B35-5579-4A5E-A066-350EE562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63B2-5A37-4FF3-A3C8-D356813C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A421-08AE-437E-A0DD-D155B86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4528-6E7F-454C-A0A5-D3C9ACC7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7C1D-162D-4FA3-9EC7-FE7F3324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F719-B460-4E11-9F5D-1CCED5FE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3174-A538-4043-B19D-3E54B145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E717-F939-45D4-A3A3-D2E66B10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77E4-DF10-471A-A116-0C20BC05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C6D4-C500-471C-B2AA-D39488B4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4E5-0A90-40F4-884F-C7806A64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F53B-0604-41B6-8CA0-F5B811D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123A-A9A6-4115-81F0-5953BF28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5E27-0173-410E-BA17-4B1EAC8B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53A8-8D11-47A0-9AFB-313F7F6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E5AE-6482-4AFB-9E35-CCB2D53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2C05-2EA2-44F7-AF35-5D6F359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DC4D-3C54-4653-B026-3A229AA9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5ECB0-08C4-4046-AA7D-475ED857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4D7F-5C81-43EB-8953-D926CCB9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AD08-54C1-4932-AA9D-ACF61F66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250-567A-4D78-BF54-3A44D32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E95C-C57F-4A31-A4F3-E070C104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E0A38-72A5-4762-ACE3-3892AB0C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EF31D-3F90-4253-8220-36633849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EA889-20C2-494C-AFBB-8304A150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AC723-EC20-463F-957E-3C0E416D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B4D3-EB53-4353-9FB8-09348E7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CAF59-42A4-42E5-9C90-2EEAFB7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E6A0E-DEF1-4F78-BFC7-13881D85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290BD-A1ED-456A-9FCC-3F829F0D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B416-FE9B-493D-B3BC-2CE7BC53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8A9-124E-46AC-8820-EEA52473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6BFA-2FCA-4836-B260-D431CBC3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ACF6-4B9A-47F2-8E5D-1BE8DE93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2EC6B-9C9B-4A7A-9E69-6F04CF0F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96C4-5C52-4F39-A4C5-A2B69B5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08C0A-51C8-4134-8185-60171236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DE2D-BF7E-4015-8B80-34BE5370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CD8FD-D997-40F2-869E-F72D7372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A4EFD-1D71-43D1-B41B-7EE6BF45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899AF-D85B-4A96-A514-57187AC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D9C61-74BA-4B51-8C9D-4719D78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C3C-1600-4538-B430-E8F38EC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ABA51-5EE1-4343-AA3D-7BD9AA6A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1400-DE0B-4594-A8F1-82DF7221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D80DF-54CD-4161-A78A-B032244B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745F9-6155-4B8E-93FA-2B7CADAF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2F797-298F-464C-96F1-5412BA5D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BFF1A-CCEA-4899-ADD3-8095B2E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2D5D2-4025-497B-BE23-641E529E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647B-39AC-41A5-890F-1BF8C065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4DED5-B201-46DA-A47A-5FA35DA9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D664-EBDE-467A-B0D4-C69C327E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B63-4425-41CA-B1FC-1AAB1F2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2AEB7-73DC-4114-856E-DB849D12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9511-7EC8-44D8-8D91-A70B0BAB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FB507-5AFE-46E5-B37A-559275F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279F7-4F4F-4C09-BECE-60404D97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EE3A2-5AE5-42FB-B932-8F9123FE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7CEA8-CDFA-4C8B-A1C0-06A1449C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C0F09-D18F-4369-80A6-214DCEC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AA146-3543-40FB-BF1B-098C7333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3F2F9-F5C4-4212-9EF8-4276E0CA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E5970-384A-4F35-8B17-E0162DC4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37B-CC8A-46D5-B33E-79BBA77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CCA59-9451-4D6F-B9F2-3054563A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C78A1-FC13-44E5-BD73-B7C4BE9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281F3-94AB-439C-A59A-6129676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C4AE2-897A-4444-9862-0F46390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87717-88B6-4811-A8DB-BD5A93B6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8A9C7-605D-4BC8-9DE1-AF7541C7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0F270-9B47-4560-A8B4-603594A3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10C96-A6FD-4C44-8CFE-A24D657C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EE958-BD07-46A6-8AD4-3F2211CB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2A138-CE68-43E7-807B-E177B9B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6749-CF92-41D5-9D41-28B03DFC834C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D8E-18B0-4AE3-9C4D-8BE9BED9BF2A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9F7C-789B-4016-86C6-9EBBB7A91934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FAF5-F085-4B2D-8AB1-29CA7F11E9D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3F2C-3964-4FD1-A8C3-A0C330D4047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7328-5F5A-40C9-8E9D-0FB4B7A457F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B095-FF25-41E1-A725-700BF3BE327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9E0A-3750-4E74-B42C-1CFEFE23B1C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85BC-F2FD-4500-9FE0-56B77A98EEA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A84D-6C94-4C77-AA26-740778056C5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9145-286F-45DA-8B95-AA2D397E6B1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810F-873A-49A2-BC1B-F06A9089C3A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48E1-4434-45C4-B139-12CBB6A1DAC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525C-FD08-414A-A212-A1682095D9F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B9D8-65C3-4E58-922D-B0852F8EA4B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613E-E27F-46A5-B083-AE3D8E497D2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01F7-6991-4BF3-9779-51B529F9BDA3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3906-5236-4032-A4E4-BE6731C588E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0CD9-D815-4859-8CDA-5D97D840552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DE27-D121-4725-8630-8EB941129E3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8F9-A3BB-4B28-AA18-FA785DF370FA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9FB5-27BF-4471-B72D-B9C049879C6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9A72-6E9D-4C7F-8D41-1FC3EF009EB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544E-A215-46BE-AC22-0D41312F006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2101680" y="3251160"/>
            <a:ext cx="61153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DilleniaUPC"/>
              </a:rPr>
              <a:t>Why don't you talk to your parents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147840" y="4132440"/>
            <a:ext cx="25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R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八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17600" y="309708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Uni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6"/>
          <p:cNvSpPr/>
          <p:nvPr/>
        </p:nvSpPr>
        <p:spPr>
          <a:xfrm>
            <a:off x="417600" y="3952800"/>
            <a:ext cx="793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565360" y="5070600"/>
            <a:ext cx="44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/>
          <p:cNvSpPr/>
          <p:nvPr/>
        </p:nvSpPr>
        <p:spPr>
          <a:xfrm>
            <a:off x="4878360" y="230040"/>
            <a:ext cx="4110120" cy="10461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500040" y="1276200"/>
            <a:ext cx="80024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have to compete with my classmates at school. (1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ompe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竞争；对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ompete for sth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为某事而竞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ompete with /against s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与某人竞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irty people had t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ompete 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only ten open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十个人必须只为十个名额来竞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anno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ompete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hose postgradu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无法和那些研究生竞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4460760" y="228600"/>
            <a:ext cx="4424400" cy="10476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326880" y="1276200"/>
            <a:ext cx="802512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i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竞争、角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We won the contract in the face of stiff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competi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对激烈的竞争，我们赢得了这份合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itiv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竞争的，有竞争力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itive game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竞技性比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it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为“</a:t>
            </a:r>
            <a:r>
              <a:rPr b="1" lang="zh-CN" sz="2800" spc="-1" strike="noStrike">
                <a:solidFill>
                  <a:srgbClr val="0080ff"/>
                </a:solidFill>
                <a:latin typeface="Arial"/>
                <a:ea typeface="宋体"/>
              </a:rPr>
              <a:t>竞争者、对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our main/major/nearest competitor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我们主要的竞争对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779400" y="1301760"/>
            <a:ext cx="75214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汉语提示完成下列单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Many children are under too much 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压力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My parents ask me to 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竟争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ith my classmates a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Tom is a 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成员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f the basketball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947880" y="283680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5138640" y="3540240"/>
            <a:ext cx="22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om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2925720" y="482760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矩形 6" descr=""/>
          <p:cNvPicPr/>
          <p:nvPr/>
        </p:nvPicPr>
        <p:blipFill>
          <a:blip r:embed="rId1"/>
          <a:stretch/>
        </p:blipFill>
        <p:spPr>
          <a:xfrm>
            <a:off x="3160800" y="442800"/>
            <a:ext cx="3381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矩形 6" descr=""/>
          <p:cNvPicPr/>
          <p:nvPr/>
        </p:nvPicPr>
        <p:blipFill>
          <a:blip r:embed="rId1"/>
          <a:stretch/>
        </p:blipFill>
        <p:spPr>
          <a:xfrm>
            <a:off x="3095640" y="390600"/>
            <a:ext cx="3381480" cy="8586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831960" y="949320"/>
            <a:ext cx="83120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项选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Teenagers _____ allowed to dr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should not be        B. should b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not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Parents always like to _____ their  children _____ other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compare, with    B. regard, as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compare, from   D. compare,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3375000" y="14968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5424480" y="369576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矩形 6" descr=""/>
          <p:cNvPicPr/>
          <p:nvPr/>
        </p:nvPicPr>
        <p:blipFill>
          <a:blip r:embed="rId1"/>
          <a:stretch/>
        </p:blipFill>
        <p:spPr>
          <a:xfrm>
            <a:off x="3095640" y="390600"/>
            <a:ext cx="3381480" cy="8586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3"/>
          <p:cNvSpPr/>
          <p:nvPr/>
        </p:nvSpPr>
        <p:spPr>
          <a:xfrm>
            <a:off x="622440" y="950760"/>
            <a:ext cx="776916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The young ______ respect the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would      B. might     C. should     D. 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 He has to make lots of money _____ he can buy his children nice food and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so that                     B.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that                 D.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3446640" y="9586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6477120" y="34592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u=336681655,3085969705&amp;fm=23&amp;gp=0"/>
          <p:cNvPicPr/>
          <p:nvPr/>
        </p:nvPicPr>
        <p:blipFill>
          <a:blip r:embed="rId1"/>
          <a:srcRect l="855" t="0" r="0" b="7269"/>
          <a:stretch/>
        </p:blipFill>
        <p:spPr>
          <a:xfrm>
            <a:off x="2066760" y="2921040"/>
            <a:ext cx="4822920" cy="300024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3"/>
          <p:cNvSpPr/>
          <p:nvPr/>
        </p:nvSpPr>
        <p:spPr>
          <a:xfrm>
            <a:off x="5372280" y="774720"/>
            <a:ext cx="3619440" cy="1471680"/>
          </a:xfrm>
          <a:prstGeom prst="wedgeEllipseCallout">
            <a:avLst>
              <a:gd name="adj1" fmla="val -36930"/>
              <a:gd name="adj2" fmla="val 50861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eft my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182520" y="598320"/>
            <a:ext cx="4253040" cy="1909800"/>
          </a:xfrm>
          <a:prstGeom prst="wedgeRoundRectCallout">
            <a:avLst>
              <a:gd name="adj1" fmla="val 42236"/>
              <a:gd name="adj2" fmla="val 50249"/>
              <a:gd name="adj3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hould tell it to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eacher. You could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parents and ask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o bring it to sch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"/>
          <p:cNvSpPr/>
          <p:nvPr/>
        </p:nvSpPr>
        <p:spPr>
          <a:xfrm>
            <a:off x="274680" y="560520"/>
            <a:ext cx="3422520" cy="2198520"/>
          </a:xfrm>
          <a:prstGeom prst="wedgeRoundRectCallout">
            <a:avLst>
              <a:gd name="adj1" fmla="val 60874"/>
              <a:gd name="adj2" fmla="val 33912"/>
              <a:gd name="adj3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I'm a little bit s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I'm afraid of spe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in front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should I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3" descr="u=3622206234,3993907881&amp;fm=23&amp;gp=0"/>
          <p:cNvPicPr/>
          <p:nvPr/>
        </p:nvPicPr>
        <p:blipFill>
          <a:blip r:embed="rId1"/>
          <a:srcRect l="0" t="0" r="0" b="5064"/>
          <a:stretch/>
        </p:blipFill>
        <p:spPr>
          <a:xfrm>
            <a:off x="3097080" y="1405080"/>
            <a:ext cx="2979720" cy="4138560"/>
          </a:xfrm>
          <a:prstGeom prst="rect">
            <a:avLst/>
          </a:prstGeom>
          <a:ln w="0">
            <a:noFill/>
          </a:ln>
        </p:spPr>
      </p:pic>
      <p:sp>
        <p:nvSpPr>
          <p:cNvPr id="585" name="AutoShape 4"/>
          <p:cNvSpPr/>
          <p:nvPr/>
        </p:nvSpPr>
        <p:spPr>
          <a:xfrm>
            <a:off x="6076800" y="2759040"/>
            <a:ext cx="2847960" cy="2784600"/>
          </a:xfrm>
          <a:prstGeom prst="wedgeRoundRectCallout">
            <a:avLst>
              <a:gd name="adj1" fmla="val -53810"/>
              <a:gd name="adj2" fmla="val -52342"/>
              <a:gd name="adj3" fmla="val 16667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ou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ore conf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ou should p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ports with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riends aft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401760" y="352440"/>
            <a:ext cx="8354880" cy="1574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activities do you like to do to help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wer your stress? Order them [1-8] with 1 b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most favorite thing you do to lower stress 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u4B_1a"/>
          <p:cNvPicPr/>
          <p:nvPr/>
        </p:nvPicPr>
        <p:blipFill>
          <a:blip r:embed="rId1"/>
          <a:srcRect l="18362" t="0" r="17933" b="0"/>
          <a:stretch/>
        </p:blipFill>
        <p:spPr>
          <a:xfrm>
            <a:off x="6153120" y="3340080"/>
            <a:ext cx="2965320" cy="34923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701640" y="2238480"/>
            <a:ext cx="5451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play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hang out with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talk to parents or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spend time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play computer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watch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other: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974880" y="552780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974880" y="213660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974880" y="278136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974880" y="459432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974880" y="501012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974880" y="386388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974880" y="330048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857160" y="507960"/>
            <a:ext cx="6232680" cy="3097080"/>
          </a:xfrm>
          <a:prstGeom prst="cloudCallout">
            <a:avLst>
              <a:gd name="adj1" fmla="val 46027"/>
              <a:gd name="adj2" fmla="val 72527"/>
            </a:avLst>
          </a:prstGeom>
          <a:solidFill>
            <a:srgbClr val="ffffff"/>
          </a:solidFill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b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Tell your part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bout your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in 1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AutoShape 2"/>
          <p:cNvSpPr/>
          <p:nvPr/>
        </p:nvSpPr>
        <p:spPr>
          <a:xfrm>
            <a:off x="571680" y="352440"/>
            <a:ext cx="8302320" cy="1352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sten and check (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)the problems Wei 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s about.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571680" y="2030400"/>
            <a:ext cx="81327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My parents give me a lot of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ou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I don't get enough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I don't have enough fre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I had a fight with my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I have to compete with 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lassmates a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844560" y="2030400"/>
            <a:ext cx="8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844560" y="3589200"/>
            <a:ext cx="8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844560" y="4656240"/>
            <a:ext cx="8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U4 Section B 1c.mp3" descr="U4 Section B 1c"/>
          <p:cNvPicPr/>
          <p:nvPr/>
        </p:nvPicPr>
        <p:blipFill>
          <a:blip r:embed="rId1"/>
          <a:stretch/>
        </p:blipFill>
        <p:spPr>
          <a:xfrm>
            <a:off x="6657840" y="954000"/>
            <a:ext cx="752760" cy="7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59507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401760" y="352440"/>
            <a:ext cx="8302680" cy="1352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Listen again. What advice does Alice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to Wei Ming? Fill in the blanks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662040" y="2017800"/>
            <a:ext cx="80424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Although you may be __________ with you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ents, you should talk to them. Ask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y they give you so much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Life shouldn't just be about 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ee time activities like _________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nging out with friends are important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064120" y="222552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n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5954760" y="360216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5954760" y="428796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5305320" y="4807080"/>
            <a:ext cx="17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U4 Section B 1d.mp3" descr="U4 Section B 1d"/>
          <p:cNvPicPr/>
          <p:nvPr/>
        </p:nvPicPr>
        <p:blipFill>
          <a:blip r:embed="rId1"/>
          <a:stretch/>
        </p:blipFill>
        <p:spPr>
          <a:xfrm>
            <a:off x="7300800" y="1143000"/>
            <a:ext cx="87480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063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AutoShape 2"/>
          <p:cNvSpPr/>
          <p:nvPr/>
        </p:nvSpPr>
        <p:spPr>
          <a:xfrm>
            <a:off x="401760" y="352440"/>
            <a:ext cx="8302680" cy="1352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Listen again. What advice does Alice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to Wei Ming? Fill in the blanks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828720" y="2232000"/>
            <a:ext cx="7875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 You shouldn't _________ with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assmates to get better grades. Yo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hould all be _________ each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4381560" y="247032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om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4381560" y="386064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el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401760" y="352440"/>
            <a:ext cx="8302680" cy="13525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is your advice for Wei Ming? Tell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tner and say why.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u=106307706,1496798218&amp;fm=21&amp;gp=0"/>
          <p:cNvPicPr/>
          <p:nvPr/>
        </p:nvPicPr>
        <p:blipFill>
          <a:blip r:embed="rId1"/>
          <a:stretch/>
        </p:blipFill>
        <p:spPr>
          <a:xfrm>
            <a:off x="2335320" y="2784600"/>
            <a:ext cx="3579840" cy="313668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4"/>
          <p:cNvSpPr/>
          <p:nvPr/>
        </p:nvSpPr>
        <p:spPr>
          <a:xfrm>
            <a:off x="5654520" y="2225520"/>
            <a:ext cx="2511720" cy="1627200"/>
          </a:xfrm>
          <a:prstGeom prst="wedgeRoundRectCallout">
            <a:avLst>
              <a:gd name="adj1" fmla="val -41657"/>
              <a:gd name="adj2" fmla="val 77986"/>
              <a:gd name="adj3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 think W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ing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5"/>
          <p:cNvSpPr/>
          <p:nvPr/>
        </p:nvSpPr>
        <p:spPr>
          <a:xfrm>
            <a:off x="552600" y="2225520"/>
            <a:ext cx="1782720" cy="1092240"/>
          </a:xfrm>
          <a:prstGeom prst="wedgeEllipseCallout">
            <a:avLst>
              <a:gd name="adj1" fmla="val 67208"/>
              <a:gd name="adj2" fmla="val 59300"/>
            </a:avLst>
          </a:prstGeom>
          <a:solidFill>
            <a:srgbClr val="ff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6"/>
          <p:cNvSpPr/>
          <p:nvPr/>
        </p:nvSpPr>
        <p:spPr>
          <a:xfrm>
            <a:off x="5915160" y="4762440"/>
            <a:ext cx="2536560" cy="1158840"/>
          </a:xfrm>
          <a:prstGeom prst="cloudCallout">
            <a:avLst>
              <a:gd name="adj1" fmla="val -72444"/>
              <a:gd name="adj2" fmla="val -61453"/>
            </a:avLst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caus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2:32:3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